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BBD-3519-45DF-99FF-49818482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CFD-1D08-4F1E-9880-8C928FC1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554-3B0C-44F3-893C-71987527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450-EB1D-47B0-85ED-2260AAB1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337-AE1D-4588-AC92-0BCFAB54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6A9-B800-4621-BCE2-CC021937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F02-7DA8-4C58-8AEF-97301FB4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F85-719E-4952-A852-0F67D98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38F-8DFF-4578-B8D5-6235E75A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272-15E5-42E0-B0A2-DC6C647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77B-6BAA-4B40-96B3-F565CDA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688-7FD8-4ABD-B94E-BDA6CFF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C6B4-CC80-4476-A79C-0BBFA2693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zed way of gathering and analyzing evidence about the natur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what we don'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o revision, testing, and discu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s of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50022" b="0"/>
          <a:stretch/>
        </p:blipFill>
        <p:spPr>
          <a:xfrm>
            <a:off x="457200" y="1600200"/>
            <a:ext cx="20574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4286520" cy="208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205740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2000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we get to where we ar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every discovery raises more questions than it answ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development of new portable remote data collecting equipment enables researchers to monitor environmental conditions around the clock.  Allows researchers to pose and test new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iosity, skepticism, open-mindedness, and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relationship between science and soci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8:06:42Z</dcterms:created>
  <dc:creator>Tera Linn</dc:creator>
  <dc:description/>
  <dc:language>en-US</dc:language>
  <cp:lastModifiedBy>Tera Linn</cp:lastModifiedBy>
  <dcterms:modified xsi:type="dcterms:W3CDTF">2011-08-16T18:43:39Z</dcterms:modified>
  <cp:revision>2</cp:revision>
  <dc:subject/>
  <dc:title>What is Science?</dc:title>
</cp:coreProperties>
</file>